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6B10-35A1-43AA-952D-8900819D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D19-C5BC-47B4-8C56-F5EC2D44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87E9-CF68-4F15-A3EB-7A1401EA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4989-C7D6-471D-8780-114D0A69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3C5C-1DAE-4784-AD95-C1281546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95FA-0AAB-4AC8-B4E4-FEFB61BD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76A3-9FD7-4BE8-86EE-09CF1478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D3CC-ED58-409D-8D1A-7F182C35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AD6-AE1A-4DFC-B880-34C58DFD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91D6-A53F-4673-AC1D-1ED9DDF1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812C-A2A3-4E33-B6D3-D785AD63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9C6-8C69-47FC-BE0A-74778E24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7EA8-CEF6-4622-8942-A34DF269F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avid Reyno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0" y="1219320"/>
            <a:ext cx="9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reek  City-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8" descr="http://t0.gstatic.com/images?q=tbn:ANd9GcRdCKjWof9W5zWJIFbdJuEauajYTgx4QxfV9K08TNi2SuH6-xQ5lA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2514600" y="1523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udy of wisdom and the right way t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http://t0.gstatic.com/images?q=tbn:ANd9GcTnqM7K8CWcxYcUyB6fNpJpz0IRFwe37EOB4a_VyxNnXaqNcovZUw"/>
          <p:cNvPicPr/>
          <p:nvPr/>
        </p:nvPicPr>
        <p:blipFill>
          <a:blip r:embed="rId1"/>
          <a:stretch/>
        </p:blipFill>
        <p:spPr>
          <a:xfrm>
            <a:off x="3276720" y="3429000"/>
            <a:ext cx="264780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form of government  where people vote to make desig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ts3.mm.bing.net/images/thumbnail.aspx?q=1632893346090&amp;id=5d7b05a9bb3133a8b87e6899090f5bb8&amp;url=http%3a%2f%2fwww.thelibertyvoice.com%2fwp-content%2fuploads%2f2010%2f06%2f633611418566621433-Democracy.jpg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828800" y="16002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ea of land nearly surrounded by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http://t2.gstatic.com/images?q=tbn:ANd9GcRGCgbi2yBNTrMDDvkeOMN7csQp5hjlb59dNkraQTvW9u33vPra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362320" y="1295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r between athens and sp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http://t0.gstatic.com/images?q=tbn:ANd9GcR4SG4-xBxMaUDbHYNM4OQCwahS4mxUTbtnyTxEHAsN9bnFwOpznw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http://t1.gstatic.com/images?q=tbn:ANd9GcTD-8uShODqs-6qAVblR7AHkZqCBJCQ7Xvi-Z3XGEaMxzOfoTNM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along the cost 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http://t3.gstatic.com/images?q=tbn:ANd9GcSTz9CAC1C1NfZBfvsoyGl0SAdqW4qG4Tme4bX0S9DpjDSJDmVAVw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ts1.mm.bing.net/images/thumbnail.aspx?q=1606968543236&amp;id=37156208650964fb6674b2352413ce85&amp;url=http%3a%2f%2fupload.wikimedia.org%2fwikipedia%2fcommons%2f3%2f37%2fAcropolis_of_Athens_01361.JPG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http://ts4.mm.bing.net/images/thumbnail.aspx?q=1581856075387&amp;id=2ebc77a42262dd046b5dc85e22490d6c&amp;url=http%3a%2f%2fwww.mccullagh.org%2fdb9%2f1ds-12%2froman-agora.jpg"/>
          <p:cNvPicPr/>
          <p:nvPr/>
        </p:nvPicPr>
        <p:blipFill>
          <a:blip r:embed="rId1"/>
          <a:stretch/>
        </p:blipFill>
        <p:spPr>
          <a:xfrm>
            <a:off x="0" y="1498680"/>
            <a:ext cx="9144000" cy="53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 lawmaking place where people voted on issues that helped their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ts1.mm.bing.net/images/thumbnail.aspx?q=1626340924836&amp;id=352da4d525efe49eadfeb303d7cb6348&amp;url=http%3a%2f%2fwww.burdosclassroom.org%2fworldhistorywiki%2fimages%2fc%2fc8%2fPicture2.jpg"/>
          <p:cNvPicPr/>
          <p:nvPr/>
        </p:nvPicPr>
        <p:blipFill>
          <a:blip r:embed="rId1"/>
          <a:srcRect l="0" t="0" r="0" b="1964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ITIZ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ts2.mm.bing.net/images/thumbnail.aspx?q=1618245849457&amp;id=8ec1818af6f5a3e5b3220dbde9d6a50f&amp;url=http%3a%2f%2fgreece.mrdonn.org%2fathens1.gif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 person who has certain rights and responsibilities to his or her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18148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4300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group of people who lived apart from Greece but kept economic ties with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ts1.mm.bing.net/images/thumbnail.aspx?q=1624370196236&amp;id=9a48191c7fd926a00f8e0d8c6b6daa54&amp;url=http%3a%2f%2fwww.nps.gov%2frowi%2fhistoryculture%2fimages%2froger-williams-Welcome_Colony.jpg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4792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form of government where people vote to make the desig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ttp://t2.gstatic.com/images?q=tbn:ANd9GcTDJC3MaE0HCikerrUCSy3Zc7zJYm5j_C8YN1N2sCTFmlpMYVAqIQ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2590920" y="129528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ar evidence and make decisions in  a court of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0" descr="http://t3.gstatic.com/images?q=tbn:ANd9GcQiguxFsS_keO4HpFe0EVD7yk4UbRFvIHFoZbUiezNflMd_2cXyVQ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1295280" y="137160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headed by one 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http://t3.gstatic.com/images?q=tbn:ANd9GcSf6vAnFKjvbXNAtQtv8-MhSWNDXZX56RLuj2c_4v2dv-ALp-bV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2T20:41:49Z</dcterms:modified>
  <cp:revision>99</cp:revision>
  <dc:subject/>
  <dc:title>Ancient Greece</dc:title>
</cp:coreProperties>
</file>